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72E740-35B7-4D8C-83B6-6DB29F879D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A0E18-B4D6-44BE-9952-BBA48D737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E09BD-25B3-4C45-AFDA-CF2F9D329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2DFB-72D4-4637-8A2B-C7A187DBA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F906-4C9F-48B0-9EBF-0613E3391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BE6D-FC40-4F42-BA2D-D1094B568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3BC8-1707-4546-B856-E333810D6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6750-D9D2-4DA1-A777-4AC680527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81DD-EF35-4679-8441-47A6750833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DBD76-9728-4BD4-A5E9-F0773F2094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7350E-6143-4758-A2F6-730FCE00BB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779B-F3D5-4B28-B9D5-1101FCC858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D70C6-C678-4F79-B4DB-F90E5EFDEE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92C7-6573-4D66-BEA4-8398499343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D616-9952-477F-BFB8-8D5178F1E1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C1906-79B3-4CAD-B02E-D8ECEB1F72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8FDCE-0A9B-4F75-8607-07C2D4A3DF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FF2CD-4DBB-49AE-9A8F-00055002A4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DA208-D1E2-4210-B571-0F561567D7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6E2DB-6449-4E55-AB92-7BB596E168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1799-25F7-40BF-BD8C-C3407A119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C36F-19FC-459A-A6F2-E53B48369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0292-FD2B-4232-AB84-C98CCEBEB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9AEC-5DA1-4043-8ECF-314C55523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8953-1A8D-48BB-9768-D29526A40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3AB6-9205-4507-86C5-1C539F43E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C97E-81ED-455E-AC42-64DA88C5C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45520" y="6151320"/>
            <a:ext cx="341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4023B-7749-4604-9847-5276EAED14AA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1 MARS University of Nottingh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457560" y="6159600"/>
            <a:ext cx="76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a 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6916680" y="6151680"/>
            <a:ext cx="140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457200" y="2746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4"/>
          <p:cNvSpPr/>
          <p:nvPr/>
        </p:nvSpPr>
        <p:spPr>
          <a:xfrm>
            <a:off x="457200" y="9478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1 MARS University of Nottingh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457560" y="6159600"/>
            <a:ext cx="76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a 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916680" y="6151680"/>
            <a:ext cx="140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457200" y="2746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457200" y="9478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7248600" y="6161040"/>
            <a:ext cx="1054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1 MARS University of Nottingh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457560" y="6159600"/>
            <a:ext cx="76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a 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6916680" y="6151680"/>
            <a:ext cx="140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57200" y="2746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457200" y="947880"/>
            <a:ext cx="8229600" cy="17280"/>
          </a:xfrm>
          <a:prstGeom prst="rect">
            <a:avLst/>
          </a:prstGeom>
          <a:solidFill>
            <a:srgbClr val="710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2"/>
          </p:nvPr>
        </p:nvSpPr>
        <p:spPr>
          <a:xfrm>
            <a:off x="8372160" y="6151320"/>
            <a:ext cx="314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55DB5-593F-423A-BDDD-F549F06399A5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710e0e"/>
                </a:solidFill>
                <a:latin typeface="Arial"/>
              </a:rPr>
              <a:t>Sorting Equations and Identities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226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 (Body)"/>
              </a:rPr>
              <a:t>Projector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710e0e"/>
                </a:solidFill>
                <a:latin typeface="Arial"/>
              </a:rPr>
              <a:t>Always, Sometimes, or Never True?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8372520" y="6151680"/>
            <a:ext cx="3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F6EE8-E716-41AB-A139-C00E4AD2B78B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467280" y="1319040"/>
            <a:ext cx="37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+ 2)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+ 2) =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L13Intro.eps"/>
          <p:cNvPicPr/>
          <p:nvPr/>
        </p:nvPicPr>
        <p:blipFill>
          <a:blip r:embed="rId1"/>
          <a:srcRect l="0" t="0" r="0" b="11593"/>
          <a:stretch/>
        </p:blipFill>
        <p:spPr>
          <a:xfrm>
            <a:off x="996840" y="2373480"/>
            <a:ext cx="7375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0e0e"/>
                </a:solidFill>
                <a:latin typeface="Arial"/>
              </a:rPr>
              <a:t>Always, Sometimes, or Never True?</a:t>
            </a:r>
            <a:endParaRPr b="1" lang="en-US" sz="3200" spc="-1" strike="noStrike">
              <a:solidFill>
                <a:srgbClr val="710e0e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16172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our groups, take turns to place a card in a column and justify your answer to your partn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think the equation is sometimes true, you will need to find values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which it is true and values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which it is not tru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think the equation is always true or never true, you will need to explain how we can be sure that this is the cas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member of the group should then either explain that reasoning again in his or her own words, or challenge the reasons you gav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entire group agrees, glue the card onto your poster. Write the reason for your choice of category next to the car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8372520" y="6151680"/>
            <a:ext cx="3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C8606-18CE-4574-89E4-CA3D24CB94E4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5:02:19Z</dcterms:created>
  <dc:creator>Clare Farley</dc:creator>
  <dc:description/>
  <cp:keywords/>
  <dc:language>en-US</dc:language>
  <cp:lastModifiedBy>Pead Daniel</cp:lastModifiedBy>
  <cp:lastPrinted>2010-10-21T12:22:38Z</cp:lastPrinted>
  <dcterms:modified xsi:type="dcterms:W3CDTF">2011-02-02T16:29:51Z</dcterms:modified>
  <cp:revision>9</cp:revision>
  <dc:subject/>
  <dc:title>Equations and Identities</dc:title>
</cp:coreProperties>
</file>